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312070"/>
        <c:axId val="85794246"/>
      </c:barChart>
      <c:catAx>
        <c:axId val="733120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94246"/>
        <c:crosses val="autoZero"/>
        <c:auto val="1"/>
        <c:lblAlgn val="ctr"/>
        <c:lblOffset val="100"/>
        <c:noMultiLvlLbl val="0"/>
      </c:catAx>
      <c:valAx>
        <c:axId val="85794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120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D7BA-0647-4338-AC00-7FF166E8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82A2-8B93-4F16-96BC-8336ADAB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DE1C-2921-42D6-B281-5B8262BB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FB8E-50B8-4FD2-91EC-FD7D1701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1F5C-DB83-437D-96B2-195B9CC8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A4A8-833B-432C-8B9F-754151B5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20A5-1DEA-4E9C-88A9-3BFF0890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41E7-D357-4EA7-A16F-D5C979DA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C913-75C3-4314-B9BD-EDD56FFD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BEB4-3036-4FBE-9EAC-884F5148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D425-B9FC-4C3B-BD48-6389F2E2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FB93-4B5F-4ACA-B513-A5A31D09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92D8D-754B-469D-A3EE-476FEF4A21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