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87663"/>
        <c:axId val="15829067"/>
      </c:barChart>
      <c:catAx>
        <c:axId val="96387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29067"/>
        <c:crosses val="autoZero"/>
        <c:auto val="1"/>
        <c:lblAlgn val="ctr"/>
        <c:lblOffset val="100"/>
        <c:noMultiLvlLbl val="0"/>
      </c:catAx>
      <c:valAx>
        <c:axId val="15829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7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B2B-84E4-4B27-B964-614A5C13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3E5-E980-4A4B-A538-263218A3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CDE-31C1-4940-BE89-936BC7E0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1FA-232E-4F86-94A9-D7C3563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6A3-561D-4216-B27F-82AB974B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F57-9869-4EE3-91F3-65AC838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23E-0100-4E17-8D98-2F0766F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3C2-485E-4FFA-ADE0-2C481AAB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7C7-E2B3-46B2-9F47-0E87A85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D8A-86FE-4BBC-931F-98B797B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25D-32DC-42D7-BBFA-40C2E21E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9F3-7580-4810-AF46-E582FBE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6201-212C-4D95-9D89-EF38B89956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