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235075"/>
        <c:axId val="62576829"/>
      </c:barChart>
      <c:catAx>
        <c:axId val="242350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76829"/>
        <c:crosses val="autoZero"/>
        <c:auto val="1"/>
        <c:lblAlgn val="ctr"/>
        <c:lblOffset val="100"/>
        <c:noMultiLvlLbl val="0"/>
      </c:catAx>
      <c:valAx>
        <c:axId val="625768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350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B252-B541-408D-A48F-F9B7B9DEA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8B8D-A566-4BCF-8BEB-A2525EE4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4B27-5041-43B2-BE9D-1FDF7E4C1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C9FB-CEEF-47E6-BB92-00DD8A228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114F-6236-4C4C-9F4B-05256209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F03A-B749-4AFF-AAB4-1A8C645C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1099-4EFA-4378-8807-1CB58D56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F7EA-6573-4E66-8109-F1503DD7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5A62-4988-446A-9943-8776E827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8464-D772-49DD-99F4-E6D62D0C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055E-05DF-4901-917D-CAFEB4CD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EC6B-CB51-44E5-80F0-16E697DA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7C728-FC25-4771-B739-8C04B1E6EC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