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185951"/>
        <c:axId val="74341378"/>
      </c:barChart>
      <c:catAx>
        <c:axId val="971859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41378"/>
        <c:crosses val="autoZero"/>
        <c:auto val="1"/>
        <c:lblAlgn val="ctr"/>
        <c:lblOffset val="100"/>
        <c:noMultiLvlLbl val="0"/>
      </c:catAx>
      <c:valAx>
        <c:axId val="743413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859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37E3-52AA-48BD-978B-C3B02F726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5F17-30AC-41A8-8654-EE2D8B36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FE35-C7C5-4D7C-9286-7709F4CE8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51A6-1E22-4082-916D-A5218670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AF3E-CAAD-443D-895C-BA50E825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CD9A-83F5-4ADE-8645-B8557A57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7BCB-039E-458B-86A4-AA1A5FFC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5114-93F6-4779-93A0-EF764E43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6427-D978-42A3-9259-12CE19D2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2211-A6F0-4279-88B8-EEBD23B7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2C3B-11DC-4DA7-8233-453CCA3A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F6E2-8984-4800-AE30-EB78332C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94BD7-3D1A-4F74-A6CA-20746307EB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