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17334"/>
        <c:axId val="59822142"/>
      </c:barChart>
      <c:catAx>
        <c:axId val="83517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22142"/>
        <c:crosses val="autoZero"/>
        <c:auto val="1"/>
        <c:lblAlgn val="ctr"/>
        <c:lblOffset val="100"/>
        <c:noMultiLvlLbl val="0"/>
      </c:catAx>
      <c:valAx>
        <c:axId val="59822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17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A0F-3E55-45BB-8855-84040DE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530-C01B-4AF0-BF3A-F6BDBD4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644-FB6E-420F-BAF0-20D6B020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D0B-306F-4328-9674-C6D0BC80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DF1-FE3D-47E2-97AC-8A98AB65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C02-B7A3-4572-BB50-18E79B0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9D5-1B0A-40E1-B3B0-808E5B4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3A5-AAE6-4DFA-BF01-9EAB10D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DEE-98EF-4E99-A193-78CC00F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D8C-5879-4CC9-9F9B-25842699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3EC-EEA5-49B4-9C44-59BEBB6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23A-4C2A-42EB-9376-39137D9D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7008-2EE2-4352-A506-D82BE490A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