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448270"/>
        <c:axId val="82734552"/>
      </c:barChart>
      <c:catAx>
        <c:axId val="484482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734552"/>
        <c:crosses val="autoZero"/>
        <c:auto val="1"/>
        <c:lblAlgn val="ctr"/>
        <c:lblOffset val="100"/>
        <c:noMultiLvlLbl val="0"/>
      </c:catAx>
      <c:valAx>
        <c:axId val="827345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482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9B4A-5A7E-4CF1-9F98-5621AAC71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65C8-6C9B-4618-8F6A-6F80F7A2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86EA-3824-4C2F-844C-4C6D2A72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B0A8-8D5F-48CA-9C85-405BD75F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C9E5-0674-47A7-A3F7-DD7D1D97A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7269-732E-4E9C-94E1-D50D6122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2A77-0440-481A-B304-DEAC3ADB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6BE9-340D-4C09-AC8C-2FEAB9FB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C0BE-2C8F-4246-BDA0-24113C88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6AAD-F713-4BAD-9678-D5C936FD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5FBB-3E6E-44EE-BA90-A4E90B81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AFFD-5AC3-4747-A587-73898EDA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2DBC7-CCAE-40C7-B1D7-4D074CAB9A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