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17819"/>
        <c:axId val="82709189"/>
      </c:barChart>
      <c:catAx>
        <c:axId val="59317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09189"/>
        <c:crosses val="autoZero"/>
        <c:auto val="1"/>
        <c:lblAlgn val="ctr"/>
        <c:lblOffset val="100"/>
        <c:noMultiLvlLbl val="0"/>
      </c:catAx>
      <c:valAx>
        <c:axId val="82709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17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0C0-7E99-4786-9006-8D19695F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C14-65E9-4BEF-8213-6EBBCCA2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FD9-BE23-4D87-B726-B593CBB6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2B3-2663-4A8B-866F-B66C78C9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C68-8D5A-47D7-AEBC-73889706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A2B-A008-4F86-8CB1-BE0202C7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81F-2F72-46D5-BF48-89033FF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9F0-AC83-45B7-8A5A-0AE02EDD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1F5-6C5B-464F-AD53-45D5550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6DF-0084-4117-B863-B17EC49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F66-8036-46AF-BF83-7328206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3B1-AC7C-4D77-A56C-3A7610BD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E8F19-F6F2-4E82-90E3-EBB39106E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