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73855"/>
        <c:axId val="24461391"/>
      </c:barChart>
      <c:catAx>
        <c:axId val="28573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61391"/>
        <c:crosses val="autoZero"/>
        <c:auto val="1"/>
        <c:lblAlgn val="ctr"/>
        <c:lblOffset val="100"/>
        <c:noMultiLvlLbl val="0"/>
      </c:catAx>
      <c:valAx>
        <c:axId val="244613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73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95D-644E-45F9-8A48-1B72D267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0C8-9B13-46F9-94DF-7DD1925B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729-A96C-47BC-9B0C-ABFB647A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6D05-CB6C-4098-8439-D4199F01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4BE0-CFCC-498F-8265-63AC7C42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A771-85B7-4B33-9A65-30B02290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C71A-74C8-48A0-9DF2-08C94900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2AF6-691D-420D-8521-86CB09B8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A377-C832-4329-92BB-D20DA965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24F5-557E-4634-A6DC-9AE9ADCD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C669-7D7D-451A-833F-436656C7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D52-FB23-4B1A-8CA0-C4B63F48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03F6C-5C4F-4742-830F-FD011AC67A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