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38849"/>
        <c:axId val="68734943"/>
      </c:barChart>
      <c:catAx>
        <c:axId val="59538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34943"/>
        <c:crosses val="autoZero"/>
        <c:auto val="1"/>
        <c:lblAlgn val="ctr"/>
        <c:lblOffset val="100"/>
        <c:noMultiLvlLbl val="0"/>
      </c:catAx>
      <c:valAx>
        <c:axId val="68734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38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C3B-A71E-4647-812C-9D331224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67A-3C21-4EC5-ACD9-521C605A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FE8-CE93-40C1-AD7E-02B9521E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82C-B54F-41A9-B900-72C59263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317-FE6C-4FBE-BFE7-B1A5972D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172-346F-4C29-B59A-C736AB9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78E-3DD4-4521-844B-921EC6B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608-A7F8-461B-BEC4-CDF40BA9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6D7-50CE-48B6-830B-503105B9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AD5-F8AD-4557-A817-0EF058C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551-9621-43F7-A445-1F7DD863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29B-9175-4540-BB65-1396731F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0A702-2D22-449E-A045-A3BCDAC7C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