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65468"/>
        <c:axId val="21581034"/>
      </c:barChart>
      <c:catAx>
        <c:axId val="52865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81034"/>
        <c:crosses val="autoZero"/>
        <c:auto val="1"/>
        <c:lblAlgn val="ctr"/>
        <c:lblOffset val="100"/>
        <c:noMultiLvlLbl val="0"/>
      </c:catAx>
      <c:valAx>
        <c:axId val="21581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65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B27-CB66-4D78-A307-D2D554BC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F8A-486D-46FA-82DB-2FDF356F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470-F828-4D7D-B1AA-7D40FE50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D10-E4B0-448A-8205-47A94013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9CE-4C39-4BCA-8DB6-B131C17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586-51BD-4914-8B05-6410353B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04B-612A-432D-9E14-E852C7F6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D6F-EC1D-4A2E-9E35-86E85188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99A-FF42-46F3-97B3-6046312D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9BB-E590-405E-B1C6-83A5D02E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8AB-9966-45F3-85A4-5BF74D7C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588-7B07-4F7C-B8D7-FD509A9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BAA8-F0F9-4878-A595-AC7B3A9964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