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80212"/>
        <c:axId val="10404180"/>
      </c:barChart>
      <c:catAx>
        <c:axId val="79480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04180"/>
        <c:crosses val="autoZero"/>
        <c:auto val="1"/>
        <c:lblAlgn val="ctr"/>
        <c:lblOffset val="100"/>
        <c:noMultiLvlLbl val="0"/>
      </c:catAx>
      <c:valAx>
        <c:axId val="10404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80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4E2-B87B-4134-A210-02261B9C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E30-9698-4D34-8608-21DE2AAC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CA3-9949-400A-844E-99BB934F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13F-0229-4855-8E7A-D7F525A0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425-E2A6-4B04-B44F-93BEBFE9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F94-8AB0-4A0B-B292-3E245C9D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1D6-C202-4879-B58A-BABBA9EB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E1B-9A3B-4512-B5DF-5ED42B1E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D6C-243F-4C88-898E-7F72BA9E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3C6-4F0B-4B65-B8A7-92DAD807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232-15F2-485C-83B9-0BA9A212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B09-CAB8-4896-A5E7-A3533AAC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C4A77-43E9-4439-8EB6-D2424E8C17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