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0601468"/>
        <c:axId val="1017421"/>
      </c:barChart>
      <c:catAx>
        <c:axId val="6060146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17421"/>
        <c:crosses val="autoZero"/>
        <c:auto val="1"/>
        <c:lblAlgn val="ctr"/>
        <c:lblOffset val="100"/>
        <c:noMultiLvlLbl val="0"/>
      </c:catAx>
      <c:valAx>
        <c:axId val="101742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60146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099F-6DDC-4AFF-984B-F6D882C40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52D6-389F-4011-855C-02BDF10DA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6A4D-FACB-42E0-ADFF-38FA84078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B85F-BE75-4DA7-9BF5-4F6787135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05E4-F59B-4414-806F-33E78194D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CECD-2E22-487E-8FB6-21F333134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1356-BD8E-4525-A5E0-D2D55752C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84F5-E6E4-4B13-9C44-647BC3BFE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6516-DB1F-4847-BEFF-503CABF3D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9499-C187-49D5-81DF-6B2E32D39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AFBC-4085-4FCB-82E2-6E3F3A9F4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041E-A011-48FC-90FC-9C9945452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DD298E-FA6F-4E9A-8701-94AE11295CD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