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41540"/>
        <c:axId val="24357402"/>
      </c:barChart>
      <c:catAx>
        <c:axId val="72841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57402"/>
        <c:crosses val="autoZero"/>
        <c:auto val="1"/>
        <c:lblAlgn val="ctr"/>
        <c:lblOffset val="100"/>
        <c:noMultiLvlLbl val="0"/>
      </c:catAx>
      <c:valAx>
        <c:axId val="24357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41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3BE-4D3F-4DA3-9B16-8FE3ADFA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87E-97FB-4506-9006-34FB7C8F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A64-AA2F-461C-9664-C8C3A4CE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096-D890-453F-9D84-19B2C497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146-5CA3-4513-B5E5-6E230A3B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4F9-C8EA-41A2-B605-97EEE670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026-FB98-47CD-BD7C-CDDE4CB8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26A-9888-4540-8120-6CA6E502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929-E4A7-4040-AEE1-673B9A57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54D-A22E-4D28-8DC8-AD64EBD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C64-566E-471A-9CAC-9322790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35C-EC12-44DB-83DC-47602AA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184C6-2C0F-4624-A4CE-1B2021588E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