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54952"/>
        <c:axId val="5623941"/>
      </c:barChart>
      <c:catAx>
        <c:axId val="34154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3941"/>
        <c:crosses val="autoZero"/>
        <c:auto val="1"/>
        <c:lblAlgn val="ctr"/>
        <c:lblOffset val="100"/>
        <c:noMultiLvlLbl val="0"/>
      </c:catAx>
      <c:valAx>
        <c:axId val="5623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54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4CE-B9F9-44F6-AFB8-A9FC1546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0F1-9379-4174-8335-511EDC86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37C-B0A0-48A7-9D51-3ECA1595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67E-F209-412D-87F9-64BCDD41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420-21ED-46F2-921D-758681F8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C7B-990E-4132-81B6-28E1850A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7B2-F5E8-447F-A801-24AFB461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0AB-62DB-4093-AF5F-F9F68450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DB0-D2A5-4AB4-B18D-A272D3BB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663-4E64-4A64-BA2E-19DF5DC6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07A-03B1-4E64-B9CE-E706C0F6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5E8-43C9-481E-9F67-6A2D7999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C50EE-7E2D-44C5-B6AB-F18FD89798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