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22143"/>
        <c:axId val="37803465"/>
      </c:barChart>
      <c:catAx>
        <c:axId val="66322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03465"/>
        <c:crosses val="autoZero"/>
        <c:auto val="1"/>
        <c:lblAlgn val="ctr"/>
        <c:lblOffset val="100"/>
        <c:noMultiLvlLbl val="0"/>
      </c:catAx>
      <c:valAx>
        <c:axId val="37803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22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C05-E825-4D70-B265-8102105A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051-8AEC-4F82-B083-CBC7D19D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5B5-1C2B-43C9-8AC5-207020CD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4ED-6AB4-47F1-A752-FAEE3E05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81A-CD80-453C-A22E-14B3D9CC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C6E-7535-49B0-AFEC-9653F785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E2E-F162-4009-8BF3-0908EB2F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770-ECF5-4385-8FC7-C94F4462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67F-15EF-4EB0-92D2-B0501749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2D3-A3D8-409A-8D23-39D4B4A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227-8BF6-4888-9D5A-48F404A9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E2D-3E76-4006-B02A-A877AE6C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89926-1DCA-458D-9655-CA67C3EA13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