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479672"/>
        <c:axId val="40262998"/>
      </c:barChart>
      <c:catAx>
        <c:axId val="764796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62998"/>
        <c:crosses val="autoZero"/>
        <c:auto val="1"/>
        <c:lblAlgn val="ctr"/>
        <c:lblOffset val="100"/>
        <c:noMultiLvlLbl val="0"/>
      </c:catAx>
      <c:valAx>
        <c:axId val="402629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796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D7AF-C96F-4394-979A-240E9CB3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3AF5-B910-449F-B326-4CF42E4E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9079-5448-4BD3-B75B-816720239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E5D6-D685-4F89-92E7-BEA85349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F891-A419-4B3D-86B9-DC603896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6D71-F88D-44AC-B8C4-D1135D13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025B-A1BE-4AD3-9056-59179E81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485B-D428-4AA5-A6E1-9419E9B6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269A-52B2-4A20-B8D4-70EE1AD8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E278-1186-4533-8DDF-B30B3DAB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2E11-4965-4D80-904E-567C55F9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8EDB-34CC-4BB7-BC7A-0DC6CF78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9252F-EBB6-4A8F-9DBB-9187DC4AFC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