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72179"/>
        <c:axId val="22765706"/>
      </c:barChart>
      <c:catAx>
        <c:axId val="18172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65706"/>
        <c:crosses val="autoZero"/>
        <c:auto val="1"/>
        <c:lblAlgn val="ctr"/>
        <c:lblOffset val="100"/>
        <c:noMultiLvlLbl val="0"/>
      </c:catAx>
      <c:valAx>
        <c:axId val="22765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72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FF4-4450-46DF-A5AA-54938BAE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A9B-036F-4F4D-98EA-7D1F35E0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D0C-7310-41F8-B8B1-B37DD97D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D14-A253-4E4B-A71B-5603F40C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0C4-FC33-4677-B839-8FA19D1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EF2-150C-46C4-842A-C48D8345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441-34DB-48C9-910F-933CAFA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DF1-28D4-4063-B41B-79271FA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A91-E03F-4E4A-9283-4B0C6EE4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811-C773-44E1-953F-2FB35A6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492-864E-4A47-919A-419E7032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B41-FAC2-47E0-AB0F-095B5C44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24D0D-5AFF-4E5E-B77A-C6AB14BE7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