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1171"/>
        <c:axId val="72027750"/>
      </c:barChart>
      <c:catAx>
        <c:axId val="60411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27750"/>
        <c:crosses val="autoZero"/>
        <c:auto val="1"/>
        <c:lblAlgn val="ctr"/>
        <c:lblOffset val="100"/>
        <c:noMultiLvlLbl val="0"/>
      </c:catAx>
      <c:valAx>
        <c:axId val="72027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11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29D-F3F9-4DEE-AB2A-59ABB1CA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FEB-011D-45A6-B5F0-07CD00C6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47F-1E7F-405F-A8FA-62648DBE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E991-AD56-44AF-8B71-EF61D766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9154-F00D-4A63-AB40-921429B4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5C8-57E5-4778-804C-1F0AC286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3F4-F694-43C5-8035-E49DE2CA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DDB7-2006-4BA5-9DB0-BE6EF341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F4EB-CC31-44FE-845A-B4054EBE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87D-4DE2-4518-A633-0AAC3ABB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8442-D4E7-4218-B2AD-430505B4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2A06-921D-40E8-A99E-8DFEB488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A6D52-3CC2-47FE-A1CB-494C71452D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