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849301"/>
        <c:axId val="66952100"/>
      </c:barChart>
      <c:catAx>
        <c:axId val="498493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952100"/>
        <c:crosses val="autoZero"/>
        <c:auto val="1"/>
        <c:lblAlgn val="ctr"/>
        <c:lblOffset val="100"/>
        <c:noMultiLvlLbl val="0"/>
      </c:catAx>
      <c:valAx>
        <c:axId val="669521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8493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C63E-1E04-4DC6-A582-B22F439F5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2D46-71F8-4C62-9D93-D4ADC5EBB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19AC-5C6D-47C2-8E1B-C8F0E522A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6D44-23E8-47A8-8D44-2F8BB4494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6A79-E0C1-47BD-BF08-A4B002DBB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2D7C-F7B8-42BD-AF9A-2A15D6DB6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DC36-3882-444C-AF09-6C86107A8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7D53-2ADF-4E43-AFAF-4E3C1E312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A54A-5245-4165-96F0-3C5EF1BCD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8538-E8AE-456D-A1EB-70E3156D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8B0F-A9F9-461D-BE6D-05CCC2C7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ADBA-6ED3-47DF-AE26-8A4B7D0B8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3515D0-BE73-4CBD-8BCA-76424E5F0C0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