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96096"/>
        <c:axId val="38845872"/>
      </c:barChart>
      <c:catAx>
        <c:axId val="89296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5872"/>
        <c:crosses val="autoZero"/>
        <c:auto val="1"/>
        <c:lblAlgn val="ctr"/>
        <c:lblOffset val="100"/>
        <c:noMultiLvlLbl val="0"/>
      </c:catAx>
      <c:valAx>
        <c:axId val="38845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96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3F7-45EB-4CB7-B910-62634E13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A4E-F543-40EA-9DD2-F114AE0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EAC-DDD5-4F4B-B21E-E444670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7B9-E92D-4D13-BF84-F60721C9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FF1-5B51-4835-9926-7523B27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4C8-F4F0-4B70-B100-A63C47E3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160-1CB7-4F6D-9801-3878FEDD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7F3-5329-4B7E-8E3F-DD9EAE8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66B-371F-4584-B1D7-9D14A10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0E1-017F-474D-AA70-2BC73F2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2CF-F0F2-4108-BF49-26AECB4A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E82-BBB4-4C7B-A9CE-D906229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33D9D-2965-4A84-9578-17236D1FE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