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582747"/>
        <c:axId val="60241813"/>
      </c:barChart>
      <c:catAx>
        <c:axId val="29582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41813"/>
        <c:crosses val="autoZero"/>
        <c:auto val="1"/>
        <c:lblAlgn val="ctr"/>
        <c:lblOffset val="100"/>
        <c:noMultiLvlLbl val="0"/>
      </c:catAx>
      <c:valAx>
        <c:axId val="60241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82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CB2-3E86-426A-93E8-514B4182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94F-4FD1-4746-8408-CDFD0249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054-21DC-4DD9-A5FA-22A7E8AE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C5A-5365-4ECF-AC00-5375AB2E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F87-D338-4F5E-AD8B-43ED00BC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6B4-AF35-4B90-8053-41058E81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1E0-E42A-4CA4-85AB-2338DFC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E9E-5ABA-4B84-B5E3-BDABCB3C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67B3-D6A8-4DB6-9D9D-080C2F3C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523-5BA3-449A-A043-19F4A8A8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F27-A5A9-44CD-8CE5-CD2F496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4C0-AAA1-4012-B15D-6D0911E3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3C3BD-F8D0-4BD0-807C-51CA513768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