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75684"/>
        <c:axId val="34624986"/>
      </c:barChart>
      <c:catAx>
        <c:axId val="43875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24986"/>
        <c:crosses val="autoZero"/>
        <c:auto val="1"/>
        <c:lblAlgn val="ctr"/>
        <c:lblOffset val="100"/>
        <c:noMultiLvlLbl val="0"/>
      </c:catAx>
      <c:valAx>
        <c:axId val="34624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75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EAB-E3B0-4BE3-AC55-13640176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229-A10A-42B2-85AD-C4CF555F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BDF-04B7-4A2E-9563-5CFFD47E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43F-D6EA-4CC3-BF3C-54A67B18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FD6-36A4-4C52-9F8A-6A7E39EA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DD4-2259-492C-98CB-1C111A1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3A1-C7AA-4245-9B40-E294B618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3DE-968A-4F2A-9AE3-1B813A9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CF9-6A48-40F2-BA8D-D3759C51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0A6-A357-4AAF-8EC0-0A6C468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325-E085-4AD7-9E8E-CF503BD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A7D-160F-4DFE-A0DF-E53CA7CF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3A04C-722C-4639-A344-D3E64D857E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