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816277"/>
        <c:axId val="42535634"/>
      </c:barChart>
      <c:catAx>
        <c:axId val="49816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535634"/>
        <c:crosses val="autoZero"/>
        <c:auto val="1"/>
        <c:lblAlgn val="ctr"/>
        <c:lblOffset val="100"/>
        <c:noMultiLvlLbl val="0"/>
      </c:catAx>
      <c:valAx>
        <c:axId val="425356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816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6B7D-E7D9-45AA-B223-003B1978A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0D15-C649-4770-B2EB-D3557C15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19F0-3FDE-4801-B424-39EBD35E7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FB5D-D127-463E-9869-361361B4D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9028-3B79-4A3B-BA2E-350558721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AF37-3E8D-4882-8DAF-B7F5904B6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9E0E-C103-4259-81AD-1255DC8DA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EDB-A0DC-470C-8240-C3748EEA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758D-19F2-44FB-B76A-F36A91106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2B7F-766A-4C2E-B556-4FFA21AEA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6BD9-4683-42F8-BBF6-1E613C29D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977B-8740-4AA1-B202-7D60225A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CF30C-2384-4A78-A518-49689AD0D1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