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11064"/>
        <c:axId val="75613439"/>
      </c:barChart>
      <c:catAx>
        <c:axId val="71111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13439"/>
        <c:crosses val="autoZero"/>
        <c:auto val="1"/>
        <c:lblAlgn val="ctr"/>
        <c:lblOffset val="100"/>
        <c:noMultiLvlLbl val="0"/>
      </c:catAx>
      <c:valAx>
        <c:axId val="75613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11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B56-667D-4D73-BC75-07525824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73A-635C-4C07-BAE9-3250253C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B21-2406-4CA9-80B1-F5C0B6FD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E93-F8CF-4503-89FD-3D0501BD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11E-1FFB-4B6A-9975-70DC90A4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9EA-4343-46C8-A262-EB9F42A8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2EE-EE85-4599-B584-D3E2E8D9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3CB-FEA0-45E3-AF4D-21CB55D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40F-C2EA-47A7-9F8B-AA74D3C4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1EA-1309-483C-8362-639DC4DA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D08-C222-440B-9ABA-A2EB0872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059-6BC9-4B45-832F-6D50007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5D779-3CE8-491B-8B36-903F9BC4DC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