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22972"/>
        <c:axId val="45768683"/>
      </c:barChart>
      <c:catAx>
        <c:axId val="873229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768683"/>
        <c:crosses val="autoZero"/>
        <c:auto val="1"/>
        <c:lblAlgn val="ctr"/>
        <c:lblOffset val="100"/>
        <c:noMultiLvlLbl val="0"/>
      </c:catAx>
      <c:valAx>
        <c:axId val="457686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229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E3D-7D64-4161-BE87-EDDC925A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E9A6-EC3F-4CD9-9762-7945938F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002-ACCF-45D2-AAE9-98C8FD4B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A13-7481-4585-A6D4-C1607813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BC91-B1BD-467A-A012-53ACF9EB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D0A9-1161-4001-BC4F-93789527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9486-AFF7-45FA-BB33-977DDDB7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A9E-46F7-4567-83E1-68D4DF7D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64E8-348E-4441-8188-BBA6C43A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39F7-261E-47D0-B62C-0C9D496C2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A9C5-62DD-4813-A2BD-A930F688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7642-D35A-4469-B371-68C83AD8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F17D1-3DD2-4A7A-92A2-C58EA6D736E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