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9941243"/>
        <c:axId val="97593827"/>
      </c:barChart>
      <c:catAx>
        <c:axId val="1994124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7593827"/>
        <c:crosses val="autoZero"/>
        <c:auto val="1"/>
        <c:lblAlgn val="ctr"/>
        <c:lblOffset val="100"/>
        <c:noMultiLvlLbl val="0"/>
      </c:catAx>
      <c:valAx>
        <c:axId val="9759382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994124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F2C5D-0493-48FA-BEC0-36F9F4679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4FE45-92B2-40AA-896C-A25829CEF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BF64-51BD-47FE-93BC-7CE9F0A0F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BE147-AE6A-437D-948B-6C6E35E745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8A291-0F76-47A0-A672-D98DDE3121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986-45F6-4AEE-B189-510BC49D0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F1889-A438-4AE5-A641-B6BCDB5B4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49965-685A-4370-B8BA-AE568DCD3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9F62C-ABCE-4A03-BF87-776594EED2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E0E14-105D-4A63-9908-C939EF425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2FA9-B9AC-42F0-A0D4-4640A759F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D7C24-2B64-4CF0-8906-38DC932B81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F09D4D1-BF5E-4DE6-A2A7-10F45892C11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