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187623"/>
        <c:axId val="85549242"/>
      </c:barChart>
      <c:catAx>
        <c:axId val="24187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549242"/>
        <c:crosses val="autoZero"/>
        <c:auto val="1"/>
        <c:lblAlgn val="ctr"/>
        <c:lblOffset val="100"/>
        <c:noMultiLvlLbl val="0"/>
      </c:catAx>
      <c:valAx>
        <c:axId val="855492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87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9FB4-2680-40D7-B458-E06711A1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9B82-7098-4D18-A5E1-C5195879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DDD2-8265-4AA3-B5BC-DA49260C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7A6C-DA22-4800-A988-7683AAB0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FBE-6B33-4814-BA45-3F9BF182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E79F-D3D2-4202-B4A7-BF7436DA0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C012-8341-4B38-A96C-BB85DD67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36915-A0C0-4AF6-9F9C-3CE25444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4759-A887-4C00-980B-7306C09E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F3A0-C079-413E-B270-F84E58A49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31DB-A062-443D-A275-F6EF8A80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3AB2-1FBF-43AA-8B57-3D1BE675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CC9E9-A040-411B-8D3B-468F3367BF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