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42697"/>
        <c:axId val="32307238"/>
      </c:barChart>
      <c:catAx>
        <c:axId val="78842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07238"/>
        <c:crosses val="autoZero"/>
        <c:auto val="1"/>
        <c:lblAlgn val="ctr"/>
        <c:lblOffset val="100"/>
        <c:noMultiLvlLbl val="0"/>
      </c:catAx>
      <c:valAx>
        <c:axId val="32307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2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93B-AE55-4586-A0FD-735C71D9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6CF-EA6D-4F22-A715-9F192C6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313-12A4-4393-A525-FB119015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366-6E1B-4DD7-9029-88158D2A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B97-55C4-4E38-B812-7656217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50-BE30-49BE-B513-7B27C5A4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B61-8333-4CF7-B765-9C83D4F2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974-3579-4177-BB04-649631A1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BEB-678B-4943-8D2D-66968A4F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671-0679-4EE1-92AC-8506D67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41F-A7E5-49CA-BDBD-CD056FE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15F-4BAD-4796-B79B-0F820202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AFF19-A45F-46AF-B343-2A7AFAB93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